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0.jpeg" ContentType="image/jpeg"/>
  <Override PartName="/ppt/media/image5.jpeg" ContentType="image/jpeg"/>
  <Override PartName="/ppt/media/image18.wmf" ContentType="image/x-wmf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800B-5C7C-4703-9182-318D5B07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52AC-5024-431B-9250-DCD4E05F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415C-9232-49D2-AA89-AEE20E57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BE2-97E9-4444-88D1-566579C7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7A72-173C-41E9-BA00-769BC9BA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4E73-2395-4B17-9F25-6A132626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0016-D1CD-4EDD-AE9A-FAC37F5D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0B58-3305-4CD5-A4D3-591E8E8C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1737-E79D-44D2-BEE5-84FFA9EB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1163-C86E-4D73-8EF7-8145FCEB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AB24-6CB3-443A-BA25-688391D0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DD7-A115-456E-8421-2D5698F0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27D8-8BD9-43B9-BBDE-F2BA610A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B13D-78F3-4826-BE36-9A957C61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A540-437C-4445-AE21-BBB35BEF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81E8-C1A8-44D5-A4EB-DB3CFEB6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AADA-C8AC-4935-AF32-3BFAB932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E1FB2-1BE7-4BDA-9609-9987C88B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0499C-F602-4048-B588-598D6A29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5CB6B-1BD7-4BD0-BCC6-C45C14D1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7FDF-5890-4EFF-8033-3F3C8909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6C798-A014-4488-90F3-8565F912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C151-33DE-442F-941F-1B5AC336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8A0C2-9EEC-4165-B08F-8EE4D256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C20B0-06B1-4B24-99C3-B63C7CF5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4A27C-22F0-4C92-8A8C-A2FF4982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ABE81-69B7-4491-9451-57013DE1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1A82D-C0ED-4619-8C16-F2BC1A32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1F8B9-B3C3-40B3-8B50-61C5EDD4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704D9-486B-4DBB-BD61-2149AF7A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69B7A-8A73-4D1B-B9D0-E099841C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88578-4DBF-4C60-A3BF-8DFB410C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5FF14-F146-43CB-BBE3-720C6E82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ED22-997C-41B7-BCA1-3D4D3A0E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FB502-DEF6-4296-BABE-FA99E12D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B919F-4EFA-44B9-BFF6-E4FFD45F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D1C65-9C7E-4248-BF61-77E887F4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71240-4065-4360-A090-25D624DE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2E2C1-424E-4418-A501-374767A0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85376-ACF8-4916-BA86-E18B0CA4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1D190-692C-4E1E-8700-EB895BE1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A8688-008E-4710-86C7-121C61B3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1D28B-E899-4484-99BA-20DD7E20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D68F1-1A0E-44FB-9AE0-5ED765B3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2B90-37D5-4045-A84D-786F891A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3A30A-8E1B-4562-8A22-0B1BA1DE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96390-41E3-461B-B2CD-FC1C0343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AAD5D-98B4-4819-9B5E-EBDB218A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39004-8B36-4F67-A6E5-0CED470C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89DB7-4F89-43B4-8172-8EF97667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387C0-3E87-4100-BFAB-F7B6AD7D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DB980-EA67-4098-80C8-929B9851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930CC-CB73-4320-97E1-35D443B7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96334-2BF9-4271-B5D8-F2454FC1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3E34A-9618-41FC-B670-BD221C01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D9A0-AF39-4451-BEE8-61B66A53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1C7D4-E636-4C8F-BF33-A9CD4942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ADB71-2F40-40CD-9984-CE394E17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3D75C-EE6D-42EC-89EC-B39315F2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577A5-E6F4-41DB-85EE-A6E647DA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12D5C-92D7-4028-BD7E-60B3DE5C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1202A-9D8E-44D1-B07F-AB3F482E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38355-615F-4789-B1BC-3C6D502E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B9D0A-583B-4206-98AF-E012754B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F99C8-5BD6-4CD1-8F7E-AD661A4F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2A8CC-91CE-4A41-94BB-9ACD8B70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F8F-CCA0-416F-8CDA-F4679A06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EAD66-6E12-43DB-8165-F1205816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BEC2A-0568-4FD1-99F2-FB013CD6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0CCB5-A36D-47A3-8136-E0726053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A81E1-B679-428F-A91A-149D1540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EBADE-4DC0-40F0-9B99-046E35DE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9BF0D-0CD2-4E07-B08B-20AB5FCA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6CC6C-58FA-4710-990C-B68F7C45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86E08-030B-4BD5-B1F9-2CB17FCE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EB068-6E95-4B3F-BBF5-6FBDB8F3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C2C72-ED5E-4F8E-964E-C907A03D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7E8-CD03-417D-A2C3-E484C88A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5FD2C-F86D-402F-B4EC-E6C4847A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7500F-DB7B-4D3B-95E4-191F07FD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4B4DA-7911-4A13-97F0-9E1A270D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4930A-C1C3-4F56-968A-B4E21696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5E4E4-3205-4BEA-A894-3861A2F8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ACDC-53DB-4C24-A1A0-E0E19266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3BF3-2BD4-4E26-ACDD-8D5E8E1A9811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66D6-5C1B-4175-A7C0-A6C6E342C7E8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D334-01C7-448E-A51A-C936658FB858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11E9-FE2A-4418-9F88-A21CEE675B73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F577-6701-426D-9C5D-330473211387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6E30-34BF-40AF-8762-9D8F1097668B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BCB2-882B-4E18-8F00-528EEA35A707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53143"/>
                </a:solidFill>
                <a:latin typeface="Cooper Black"/>
              </a:rPr>
              <a:t>Challenge 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7fd13b"/>
                </a:solidFill>
                <a:latin typeface="Cooper Black"/>
              </a:rPr>
              <a:t>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7fd13b"/>
              </a:solidFill>
              <a:latin typeface="Cooper Black"/>
              <a:ea typeface="Cooper Black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. LaRosa  http://www.middleschoolscience.com  for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322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addc"/>
                </a:solidFill>
                <a:latin typeface="Cooper Black"/>
              </a:rPr>
              <a:t>Equipment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addc"/>
              </a:solidFill>
              <a:latin typeface="Cooper Black"/>
              <a:ea typeface="Cooper Black"/>
            </a:endParaRPr>
          </a:p>
        </p:txBody>
      </p:sp>
      <p:pic>
        <p:nvPicPr>
          <p:cNvPr id="323" name="Picture 7" descr="C:\Documents and Settings\Liz\Local Settings\Temporary Internet Files\Content.IE5\MB5MZXEX\MCj04110470000[1].wmf"/>
          <p:cNvPicPr/>
          <p:nvPr/>
        </p:nvPicPr>
        <p:blipFill>
          <a:blip r:embed="rId2"/>
          <a:stretch/>
        </p:blipFill>
        <p:spPr>
          <a:xfrm>
            <a:off x="533520" y="3429000"/>
            <a:ext cx="26668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8674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5a74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495a74"/>
                </a:solidFill>
                <a:latin typeface="Gill Sans MT"/>
              </a:rPr>
              <a:t>Identify the following lab equipment: </a:t>
            </a:r>
            <a:endParaRPr b="0" lang="en-US" sz="36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25" name="Picture 11" descr="C:\Documents and Settings\Liz\Local Settings\Temporary Internet Files\Content.IE5\R9NS5F1O\MCj03108420000[1].wmf"/>
          <p:cNvPicPr/>
          <p:nvPr/>
        </p:nvPicPr>
        <p:blipFill>
          <a:blip r:embed="rId1"/>
          <a:stretch/>
        </p:blipFill>
        <p:spPr>
          <a:xfrm>
            <a:off x="1219320" y="1066680"/>
            <a:ext cx="2133360" cy="16970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2" descr="C:\Documents and Settings\Liz\Local Settings\Temporary Internet Files\Content.IE5\7TG4W3V7\MCj03108360000[1].wmf"/>
          <p:cNvPicPr/>
          <p:nvPr/>
        </p:nvPicPr>
        <p:blipFill>
          <a:blip r:embed="rId2"/>
          <a:stretch/>
        </p:blipFill>
        <p:spPr>
          <a:xfrm>
            <a:off x="4343400" y="914400"/>
            <a:ext cx="1523880" cy="1996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http://www.columbia.edu/itc/chemistry/chem-cf1500/labpix/images/forceps.jpg"/>
          <p:cNvPicPr/>
          <p:nvPr/>
        </p:nvPicPr>
        <p:blipFill>
          <a:blip r:embed="rId3"/>
          <a:stretch/>
        </p:blipFill>
        <p:spPr>
          <a:xfrm rot="18497400">
            <a:off x="6310080" y="4689720"/>
            <a:ext cx="2921040" cy="603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http://www.columbia.edu/itc/chemistry/chem-cf1500/labpix/images/longstemfunnel.jpg"/>
          <p:cNvPicPr/>
          <p:nvPr/>
        </p:nvPicPr>
        <p:blipFill>
          <a:blip r:embed="rId4"/>
          <a:stretch/>
        </p:blipFill>
        <p:spPr>
          <a:xfrm>
            <a:off x="7086600" y="838080"/>
            <a:ext cx="1143000" cy="2095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"/>
          <p:cNvPicPr/>
          <p:nvPr/>
        </p:nvPicPr>
        <p:blipFill>
          <a:blip r:embed="rId5"/>
          <a:stretch/>
        </p:blipFill>
        <p:spPr>
          <a:xfrm>
            <a:off x="3581280" y="3733920"/>
            <a:ext cx="3429000" cy="2496960"/>
          </a:xfrm>
          <a:prstGeom prst="rect">
            <a:avLst/>
          </a:prstGeom>
          <a:ln w="0">
            <a:noFill/>
          </a:ln>
        </p:spPr>
      </p:pic>
      <p:pic>
        <p:nvPicPr>
          <p:cNvPr id="330" name="Rectangle 12" descr=""/>
          <p:cNvPicPr/>
          <p:nvPr/>
        </p:nvPicPr>
        <p:blipFill>
          <a:blip r:embed="rId6"/>
          <a:stretch/>
        </p:blipFill>
        <p:spPr>
          <a:xfrm>
            <a:off x="1773360" y="2786040"/>
            <a:ext cx="969840" cy="822240"/>
          </a:xfrm>
          <a:prstGeom prst="rect">
            <a:avLst/>
          </a:prstGeom>
          <a:ln w="0">
            <a:noFill/>
          </a:ln>
        </p:spPr>
      </p:pic>
      <p:pic>
        <p:nvPicPr>
          <p:cNvPr id="331" name="Rectangle 13" descr=""/>
          <p:cNvPicPr/>
          <p:nvPr/>
        </p:nvPicPr>
        <p:blipFill>
          <a:blip r:embed="rId7"/>
          <a:stretch/>
        </p:blipFill>
        <p:spPr>
          <a:xfrm>
            <a:off x="4505400" y="2938320"/>
            <a:ext cx="987480" cy="822600"/>
          </a:xfrm>
          <a:prstGeom prst="rect">
            <a:avLst/>
          </a:prstGeom>
          <a:ln w="0">
            <a:noFill/>
          </a:ln>
        </p:spPr>
      </p:pic>
      <p:pic>
        <p:nvPicPr>
          <p:cNvPr id="332" name="Rectangle 14" descr=""/>
          <p:cNvPicPr/>
          <p:nvPr/>
        </p:nvPicPr>
        <p:blipFill>
          <a:blip r:embed="rId8"/>
          <a:stretch/>
        </p:blipFill>
        <p:spPr>
          <a:xfrm>
            <a:off x="7248600" y="3011400"/>
            <a:ext cx="987480" cy="828720"/>
          </a:xfrm>
          <a:prstGeom prst="rect">
            <a:avLst/>
          </a:prstGeom>
          <a:ln w="0">
            <a:noFill/>
          </a:ln>
        </p:spPr>
      </p:pic>
      <p:pic>
        <p:nvPicPr>
          <p:cNvPr id="333" name="Rectangle 15" descr=""/>
          <p:cNvPicPr/>
          <p:nvPr/>
        </p:nvPicPr>
        <p:blipFill>
          <a:blip r:embed="rId9"/>
          <a:stretch/>
        </p:blipFill>
        <p:spPr>
          <a:xfrm>
            <a:off x="1384200" y="5834160"/>
            <a:ext cx="987480" cy="822240"/>
          </a:xfrm>
          <a:prstGeom prst="rect">
            <a:avLst/>
          </a:prstGeom>
          <a:ln w="0">
            <a:noFill/>
          </a:ln>
        </p:spPr>
      </p:pic>
      <p:pic>
        <p:nvPicPr>
          <p:cNvPr id="334" name="Rectangle 16" descr=""/>
          <p:cNvPicPr/>
          <p:nvPr/>
        </p:nvPicPr>
        <p:blipFill>
          <a:blip r:embed="rId10"/>
          <a:stretch/>
        </p:blipFill>
        <p:spPr>
          <a:xfrm>
            <a:off x="4584600" y="5834160"/>
            <a:ext cx="957240" cy="822240"/>
          </a:xfrm>
          <a:prstGeom prst="rect">
            <a:avLst/>
          </a:prstGeom>
          <a:ln w="0">
            <a:noFill/>
          </a:ln>
        </p:spPr>
      </p:pic>
      <p:pic>
        <p:nvPicPr>
          <p:cNvPr id="335" name="Rectangle 17" descr=""/>
          <p:cNvPicPr/>
          <p:nvPr/>
        </p:nvPicPr>
        <p:blipFill>
          <a:blip r:embed="rId11"/>
          <a:stretch/>
        </p:blipFill>
        <p:spPr>
          <a:xfrm>
            <a:off x="7480440" y="5602320"/>
            <a:ext cx="931680" cy="828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7" descr="C:\Documents and Settings\Liz\Local Settings\Temporary Internet Files\Content.IE5\MB5MZXEX\MCj03402640000[1].wmf"/>
          <p:cNvPicPr/>
          <p:nvPr/>
        </p:nvPicPr>
        <p:blipFill>
          <a:blip r:embed="rId12"/>
          <a:stretch/>
        </p:blipFill>
        <p:spPr>
          <a:xfrm>
            <a:off x="1066680" y="4267080"/>
            <a:ext cx="234972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8674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5a74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495a74"/>
                </a:solidFill>
                <a:latin typeface="Gill Sans MT"/>
              </a:rPr>
              <a:t>Identify the following lab equipment: </a:t>
            </a:r>
            <a:endParaRPr b="0" lang="en-US" sz="36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38" name="Picture 11" descr="C:\Documents and Settings\Liz\Local Settings\Temporary Internet Files\Content.IE5\R9NS5F1O\MCj03108420000[1].wmf"/>
          <p:cNvPicPr/>
          <p:nvPr/>
        </p:nvPicPr>
        <p:blipFill>
          <a:blip r:embed="rId1"/>
          <a:stretch/>
        </p:blipFill>
        <p:spPr>
          <a:xfrm>
            <a:off x="1219320" y="1066680"/>
            <a:ext cx="2133360" cy="1697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2" descr="C:\Documents and Settings\Liz\Local Settings\Temporary Internet Files\Content.IE5\7TG4W3V7\MCj03108360000[1].wmf"/>
          <p:cNvPicPr/>
          <p:nvPr/>
        </p:nvPicPr>
        <p:blipFill>
          <a:blip r:embed="rId2"/>
          <a:stretch/>
        </p:blipFill>
        <p:spPr>
          <a:xfrm>
            <a:off x="4343400" y="914400"/>
            <a:ext cx="1523880" cy="19969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http://www.columbia.edu/itc/chemistry/chem-cf1500/labpix/images/forceps.jpg"/>
          <p:cNvPicPr/>
          <p:nvPr/>
        </p:nvPicPr>
        <p:blipFill>
          <a:blip r:embed="rId3"/>
          <a:stretch/>
        </p:blipFill>
        <p:spPr>
          <a:xfrm rot="18497400">
            <a:off x="6310080" y="4689720"/>
            <a:ext cx="2921040" cy="603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1" descr="http://www.columbia.edu/itc/chemistry/chem-cf1500/labpix/images/longstemfunnel.jpg"/>
          <p:cNvPicPr/>
          <p:nvPr/>
        </p:nvPicPr>
        <p:blipFill>
          <a:blip r:embed="rId4"/>
          <a:stretch/>
        </p:blipFill>
        <p:spPr>
          <a:xfrm>
            <a:off x="7086600" y="838080"/>
            <a:ext cx="1143000" cy="20955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2" descr=""/>
          <p:cNvPicPr/>
          <p:nvPr/>
        </p:nvPicPr>
        <p:blipFill>
          <a:blip r:embed="rId5"/>
          <a:stretch/>
        </p:blipFill>
        <p:spPr>
          <a:xfrm>
            <a:off x="3581280" y="3733920"/>
            <a:ext cx="3429000" cy="2496960"/>
          </a:xfrm>
          <a:prstGeom prst="rect">
            <a:avLst/>
          </a:prstGeom>
          <a:ln w="0">
            <a:noFill/>
          </a:ln>
        </p:spPr>
      </p:pic>
      <p:pic>
        <p:nvPicPr>
          <p:cNvPr id="343" name="Rectangle 12" descr=""/>
          <p:cNvPicPr/>
          <p:nvPr/>
        </p:nvPicPr>
        <p:blipFill>
          <a:blip r:embed="rId6"/>
          <a:stretch/>
        </p:blipFill>
        <p:spPr>
          <a:xfrm>
            <a:off x="457200" y="2925720"/>
            <a:ext cx="3352680" cy="512640"/>
          </a:xfrm>
          <a:prstGeom prst="rect">
            <a:avLst/>
          </a:prstGeom>
          <a:ln w="0">
            <a:noFill/>
          </a:ln>
        </p:spPr>
      </p:pic>
      <p:pic>
        <p:nvPicPr>
          <p:cNvPr id="344" name="Rectangle 13" descr=""/>
          <p:cNvPicPr/>
          <p:nvPr/>
        </p:nvPicPr>
        <p:blipFill>
          <a:blip r:embed="rId7"/>
          <a:stretch/>
        </p:blipFill>
        <p:spPr>
          <a:xfrm>
            <a:off x="4005360" y="2987640"/>
            <a:ext cx="2395440" cy="590760"/>
          </a:xfrm>
          <a:prstGeom prst="rect">
            <a:avLst/>
          </a:prstGeom>
          <a:ln w="0">
            <a:noFill/>
          </a:ln>
        </p:spPr>
      </p:pic>
      <p:pic>
        <p:nvPicPr>
          <p:cNvPr id="345" name="Rectangle 14" descr=""/>
          <p:cNvPicPr/>
          <p:nvPr/>
        </p:nvPicPr>
        <p:blipFill>
          <a:blip r:embed="rId8"/>
          <a:stretch/>
        </p:blipFill>
        <p:spPr>
          <a:xfrm>
            <a:off x="6778800" y="3041640"/>
            <a:ext cx="1841400" cy="671400"/>
          </a:xfrm>
          <a:prstGeom prst="rect">
            <a:avLst/>
          </a:prstGeom>
          <a:ln w="0">
            <a:noFill/>
          </a:ln>
        </p:spPr>
      </p:pic>
      <p:pic>
        <p:nvPicPr>
          <p:cNvPr id="346" name="Rectangle 15" descr=""/>
          <p:cNvPicPr/>
          <p:nvPr/>
        </p:nvPicPr>
        <p:blipFill>
          <a:blip r:embed="rId9"/>
          <a:stretch/>
        </p:blipFill>
        <p:spPr>
          <a:xfrm>
            <a:off x="957240" y="5956200"/>
            <a:ext cx="1841400" cy="590760"/>
          </a:xfrm>
          <a:prstGeom prst="rect">
            <a:avLst/>
          </a:prstGeom>
          <a:ln w="0">
            <a:noFill/>
          </a:ln>
        </p:spPr>
      </p:pic>
      <p:pic>
        <p:nvPicPr>
          <p:cNvPr id="347" name="Rectangle 16" descr=""/>
          <p:cNvPicPr/>
          <p:nvPr/>
        </p:nvPicPr>
        <p:blipFill>
          <a:blip r:embed="rId10"/>
          <a:stretch/>
        </p:blipFill>
        <p:spPr>
          <a:xfrm>
            <a:off x="4108320" y="5748480"/>
            <a:ext cx="2689200" cy="877680"/>
          </a:xfrm>
          <a:prstGeom prst="rect">
            <a:avLst/>
          </a:prstGeom>
          <a:ln w="0">
            <a:noFill/>
          </a:ln>
        </p:spPr>
      </p:pic>
      <p:pic>
        <p:nvPicPr>
          <p:cNvPr id="348" name="Rectangle 17" descr=""/>
          <p:cNvPicPr/>
          <p:nvPr/>
        </p:nvPicPr>
        <p:blipFill>
          <a:blip r:embed="rId11"/>
          <a:stretch/>
        </p:blipFill>
        <p:spPr>
          <a:xfrm>
            <a:off x="6973920" y="6035760"/>
            <a:ext cx="1998720" cy="5904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7" descr="C:\Documents and Settings\Liz\Local Settings\Temporary Internet Files\Content.IE5\MB5MZXEX\MCj03402640000[1].wmf"/>
          <p:cNvPicPr/>
          <p:nvPr/>
        </p:nvPicPr>
        <p:blipFill>
          <a:blip r:embed="rId12"/>
          <a:stretch/>
        </p:blipFill>
        <p:spPr>
          <a:xfrm>
            <a:off x="1066680" y="4267080"/>
            <a:ext cx="234972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Liz</cp:lastModifiedBy>
  <dcterms:modified xsi:type="dcterms:W3CDTF">2008-08-15T23:41:43Z</dcterms:modified>
  <cp:revision>127</cp:revision>
  <dc:subject/>
  <dc:title>Slide 1</dc:title>
</cp:coreProperties>
</file>